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85F-5011-45BE-B596-D5F0D7CE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2C3-4263-40DC-975D-5CA5B882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448-7F8E-44DB-9B77-7D4608E8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5EC-1501-410D-80C5-99EE7FE0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4D41-62D0-41A1-9789-347D6DE2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6C61-C5D4-47A0-A7A8-FAFE71E1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15A-314D-48E7-B0D3-F5F46696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E51-8B34-4C35-8C75-D22ED312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F96-C244-40B1-8FB1-B39136D8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995-92BA-4DF1-8D46-6C89157F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A30-8CDA-4E23-A3BB-E70DFE39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C21-DF83-4476-9F11-3ED966AC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33AF-5D84-4209-B212-483DFF11B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Inter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intercep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given a graph, how can you find the interce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x-inter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– 2y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 + 3y =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x – 20y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y-intercep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3x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 + 1.7y =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– 6y = 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 the line using the given intercep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intercept: 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intercept: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intercept: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intercept:  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x-intercept and the y-intercept of the line.  Graph the equation.  Label the points where the line crosses the a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 + 2y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-6 + 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 3 =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7:04:32Z</dcterms:created>
  <dc:creator>cdolezal</dc:creator>
  <dc:description/>
  <dc:language>en-US</dc:language>
  <cp:lastModifiedBy>cdolezal</cp:lastModifiedBy>
  <dcterms:modified xsi:type="dcterms:W3CDTF">2008-11-03T17:07:10Z</dcterms:modified>
  <cp:revision>2</cp:revision>
  <dc:subject/>
  <dc:title>Using Intercepts</dc:title>
</cp:coreProperties>
</file>